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285D-9B63-4198-AAA1-4D683B98BF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837-A387-45C4-8B76-A65F7D76F6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5E3-A1AE-451E-BC54-D3EC5FB5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0F1-ACE4-4B5D-BBEB-1E446895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18D-BEB4-4E73-A385-29BC72BE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1AB-0C90-4336-BBB4-B8CA231A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DDA-B61A-4313-901B-A14ED1D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00D-2F5B-4399-B77D-16DC53B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29C-89A1-46C3-B5AC-DBF89B6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B96-B1E9-438D-88D3-B00FDD0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45F-C54D-4DFC-813D-C643C91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9AE-D81D-47B4-BF8D-0B2019E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485-DBF9-4D99-82F9-82D85E89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4FB-A1EE-4750-960C-80C9F3B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833E-68DC-4AEE-9163-937133342E4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daluciaimagen.com/foto-Embalse-del-Tranco-de-Beas--Jaen_184048I0IA0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mbalse del Tranco de Beas, Jaé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2286000"/>
            <a:ext cx="3500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01:42:07Z</dcterms:created>
  <dc:creator>`pugo</dc:creator>
  <dc:description/>
  <dc:language>en-US</dc:language>
  <cp:lastModifiedBy>`pugo</cp:lastModifiedBy>
  <dcterms:modified xsi:type="dcterms:W3CDTF">2010-04-11T01:44:40Z</dcterms:modified>
  <cp:revision>2</cp:revision>
  <dc:subject/>
  <dc:title>FOTOS MANATIAL</dc:title>
</cp:coreProperties>
</file>